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E6E9-A1C8-4FFB-9F80-A6DFF9B01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0C51-C764-4BA5-B073-97F2F9009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C578-7686-4942-AC91-E82B92948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C0BE-1B86-49CE-BF8D-18DBCF60D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23A93-A98C-454C-8CB5-62FE2CE2E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1C0EB-1618-459C-8543-0B9EF4014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E7E3D-FD3A-4479-9DA2-331FA1B51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316CC-37D1-4FC4-A95E-75D4DAAA6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6C800-6E6B-4982-A11D-E4A9AC764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E62A1-F174-4F3D-9448-54936CA0B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95334-A6E5-419F-BA71-8106895A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94EA-C8E7-49BD-907F-BABF94C27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F140A-5190-40CD-83A2-74F1D08E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71DBA-B5E7-45B9-BC49-ACEF591CD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1E620-CE54-4329-BB30-36E5C8CC0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4B27A-7532-4DA1-AC53-C6E3047CC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0D1A8-6704-446C-8959-6CCD348FC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0624F-E160-4257-B5EB-122155F5C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0D5DA-F44A-430D-B668-DFB387BBD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E6DFF-8E91-400B-89E9-5E2116F58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C93CE-423E-40A6-805B-85A7B1D9D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3AFE8-BB3C-450B-ABE1-ADB03DCC3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3A0F-7470-46D1-A818-548820BCA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8E614-6207-4F69-A957-FD136657D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F0E41-AB5F-44CF-847A-FD8129E84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8D4CF-CE67-4335-8E66-346302E3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FAB95-7425-4DBD-9DA7-59C699AD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4F6F8-9166-4BC6-A3C4-0F216D97A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D57B0-731F-4D44-A639-B3BCEB650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09D93-5A1A-4F0A-A924-98E0C4EC7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FD33B-F254-4D8E-8530-71A6A21D4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F866A-AECE-43D3-8537-A3491943B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07CC3-9591-41E8-80BE-43D2C606A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5D63-2787-4B37-839C-1F2164487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AA488-9772-4D55-8755-A84C3DBA0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0029A-A25A-4650-B9EF-9F2834D3A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46B45-05EF-4A4F-A5EC-E5DDBDF89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896BA-D810-4CB9-8BF4-572F82B5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0ED2A-66A2-4388-B3A5-002920DF7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E3135-661E-4E2C-BA97-201258E5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3B95E-6AA3-4C18-876D-E2855C464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D7A0E-1D10-4916-9EC8-727645C17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F1AA8-329C-494E-8144-BB2451FB7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3B89C2-70EF-47DD-B752-F56708F37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5FA4-DF5F-4EC6-9E45-3F5C45190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A8A580-BB4F-4322-9747-F8759A4D0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81CA28-5693-42E1-ACB2-9E21972B8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433F5-4088-4DD0-907B-68301C6B6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4D7439-942E-44C5-907C-BA7E2B3BD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AF9BE0-3F2A-4736-97E3-A66F101E5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C6BEE8-F316-4C9E-8D70-1BCAA75A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50C17-E925-4C0F-8A92-94005C1D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7749F-C724-4F1A-964B-49A02962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640A7C-FE7D-4850-A964-9CC05DBDA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45B7A-07E4-476C-B8EB-B652F601D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5AD0-D46A-4AD0-8727-F123171DB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565024-EE02-49D2-BBA9-DCAC5BA85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B997AA-4B50-482B-BB64-F5E785CA0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461536-2680-4735-9ECA-156800332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FB095A-BFFD-457E-BFB2-A792EC719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D0C116-296A-4E3C-8542-FEC38D2F7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43A24F-692D-431B-911D-58F777DAC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EA3899-E5A4-4B25-BFEE-8F0A12BE7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5392A0-782C-4CDD-B19E-2866A6F63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E500AC-2F75-412D-9464-0ED2D9E36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54011D-0896-43BE-8F03-D221BFD0D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8778-2AD0-40C4-8509-CA0419F58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38AA0D-2E9B-4F1F-B3AD-7F2388C4D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48B95F-0748-4488-9376-B8DCB792B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A15FFA-4123-4BEA-932E-422661FBF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ACE8-0476-4744-9707-14C059FE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F8F2-4F8F-4854-9439-E4227AC63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D235C-FE55-4C44-99D5-450CED0B738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6A20E-04B1-4C87-A58A-7160C1D19B5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1BD0E-7AE8-4333-8C7C-E122479C943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C22C8-078B-4B82-8076-E2ECCDD9F30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DC2F5-8DBF-449E-AD28-5F14D5E621A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2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8AA60-8420-42AB-9D98-15FE8DEF1EB0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Урок русского языка в 7 класс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WordArt 4"/>
          <p:cNvSpPr txBox="1"/>
          <p:nvPr/>
        </p:nvSpPr>
        <p:spPr>
          <a:xfrm>
            <a:off x="1295280" y="1295280"/>
            <a:ext cx="75726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Правописание производных предлог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3280" y="456840"/>
            <a:ext cx="8183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Е или И? Кто быстрее?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838080" y="2742840"/>
            <a:ext cx="8305920" cy="29718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1.В течени… дня заросли неузнаваемо изменились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2.Ошибки допущены вследстви… невнимательност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3. В продолжени… романа появятся новые геро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4. Мели постоянно попадались в течени… рек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5. Шорох и шёпот слышались в продолжени… часа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Text Box 4"/>
          <p:cNvSpPr/>
          <p:nvPr/>
        </p:nvSpPr>
        <p:spPr>
          <a:xfrm flipH="1">
            <a:off x="1175760" y="7010280"/>
            <a:ext cx="183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ши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1143000" y="1295280"/>
            <a:ext cx="62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пишите на листке рядом с номером предложения вставленную букву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Е или 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3280" y="457200"/>
            <a:ext cx="8183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роверьте себя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1752480" y="2361960"/>
            <a:ext cx="3810240" cy="3724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1.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2.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3.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4.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5.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456840"/>
            <a:ext cx="8183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8d3e"/>
                </a:solidFill>
                <a:latin typeface="Verdana"/>
              </a:rPr>
              <a:t>Вставьте буквы, выпишите их, прочитайте получившееся слово.</a:t>
            </a: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503280" y="1295280"/>
            <a:ext cx="3687840" cy="457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штем…ел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тт…ста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инегре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а…икатур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…лон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дес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…ссажи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…то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…нвер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наря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ро…ьб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о…за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3280" y="533160"/>
            <a:ext cx="81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амостоятельная работ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990720" y="2743200"/>
            <a:ext cx="7467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игаться (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в)перед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олонны, обойти (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во)кру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амятника, спешить (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на)встречу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асности, пройти (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по)зад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тоящего трамвая, 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(в) теч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да, (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не)смотря 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пасность, перевести деньги 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(на)счё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банке, поговорить 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(на)счё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кзаменов; (не) смотря на доску, решил задачу; 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(в) связ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 переездом, 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(в)следств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епогоды, 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(в) продолж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да, 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(на)подоб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цвет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3280" y="457200"/>
            <a:ext cx="8183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роверьте себя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503280" y="1600200"/>
            <a:ext cx="8183520" cy="4648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вигаться </a:t>
            </a:r>
            <a:r>
              <a:rPr b="1" lang="ru-RU" sz="2800" spc="-1" strike="noStrike">
                <a:solidFill>
                  <a:srgbClr val="990000"/>
                </a:solidFill>
                <a:latin typeface="Verdana"/>
              </a:rPr>
              <a:t>вперед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колонны, обойти </a:t>
            </a:r>
            <a:r>
              <a:rPr b="1" lang="ru-RU" sz="2800" spc="-1" strike="noStrike">
                <a:solidFill>
                  <a:srgbClr val="990000"/>
                </a:solidFill>
                <a:latin typeface="Verdana"/>
              </a:rPr>
              <a:t>вокруг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памятника, спешить </a:t>
            </a:r>
            <a:r>
              <a:rPr b="1" lang="ru-RU" sz="2800" spc="-1" strike="noStrike">
                <a:solidFill>
                  <a:srgbClr val="990000"/>
                </a:solidFill>
                <a:latin typeface="Verdana"/>
              </a:rPr>
              <a:t>навстречу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асности, пройти </a:t>
            </a:r>
            <a:r>
              <a:rPr b="1" lang="ru-RU" sz="2800" spc="-1" strike="noStrike">
                <a:solidFill>
                  <a:srgbClr val="990000"/>
                </a:solidFill>
                <a:latin typeface="Verdana"/>
              </a:rPr>
              <a:t>позад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стоящего трамвая, </a:t>
            </a:r>
            <a:r>
              <a:rPr b="1" lang="ru-RU" sz="2800" spc="-1" strike="noStrike">
                <a:solidFill>
                  <a:srgbClr val="a50021"/>
                </a:solidFill>
                <a:latin typeface="Verdana"/>
              </a:rPr>
              <a:t>в течени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года, </a:t>
            </a:r>
            <a:r>
              <a:rPr b="1" lang="ru-RU" sz="2800" spc="-1" strike="noStrike">
                <a:solidFill>
                  <a:srgbClr val="a50021"/>
                </a:solidFill>
                <a:latin typeface="Verdana"/>
              </a:rPr>
              <a:t>несмотря н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опасность, перевести деньги </a:t>
            </a:r>
            <a:r>
              <a:rPr b="1" lang="ru-RU" sz="2800" spc="-1" strike="noStrike">
                <a:solidFill>
                  <a:srgbClr val="a50021"/>
                </a:solidFill>
                <a:latin typeface="Verdana"/>
              </a:rPr>
              <a:t>на счёт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в банке, поговорить </a:t>
            </a:r>
            <a:r>
              <a:rPr b="1" lang="ru-RU" sz="2800" spc="-1" strike="noStrike">
                <a:solidFill>
                  <a:srgbClr val="a50021"/>
                </a:solidFill>
                <a:latin typeface="Verdana"/>
              </a:rPr>
              <a:t>насчёт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кзаменов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Verdana"/>
              </a:rPr>
              <a:t>    </a:t>
            </a:r>
            <a:r>
              <a:rPr b="1" lang="ru-RU" sz="2800" spc="-1" strike="noStrike">
                <a:solidFill>
                  <a:srgbClr val="a50021"/>
                </a:solidFill>
                <a:latin typeface="Verdana"/>
              </a:rPr>
              <a:t>не смотря н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доску, решил задачу; </a:t>
            </a:r>
            <a:r>
              <a:rPr b="1" lang="ru-RU" sz="2800" spc="-1" strike="noStrike">
                <a:solidFill>
                  <a:srgbClr val="a50021"/>
                </a:solidFill>
                <a:latin typeface="Verdana"/>
              </a:rPr>
              <a:t>в связи с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переездом, </a:t>
            </a:r>
            <a:r>
              <a:rPr b="1" lang="ru-RU" sz="2800" spc="-1" strike="noStrike">
                <a:solidFill>
                  <a:srgbClr val="a50021"/>
                </a:solidFill>
                <a:latin typeface="Verdana"/>
              </a:rPr>
              <a:t>вследстви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непогоды, </a:t>
            </a:r>
            <a:r>
              <a:rPr b="1" lang="ru-RU" sz="2800" spc="-1" strike="noStrike">
                <a:solidFill>
                  <a:srgbClr val="a50021"/>
                </a:solidFill>
                <a:latin typeface="Verdana"/>
              </a:rPr>
              <a:t>в продолжени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года, </a:t>
            </a:r>
            <a:r>
              <a:rPr b="1" lang="ru-RU" sz="2800" spc="-1" strike="noStrike">
                <a:solidFill>
                  <a:srgbClr val="a50021"/>
                </a:solidFill>
                <a:latin typeface="Verdana"/>
              </a:rPr>
              <a:t>наподоби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цветк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7"/>
          <p:cNvSpPr/>
          <p:nvPr/>
        </p:nvSpPr>
        <p:spPr>
          <a:xfrm>
            <a:off x="3124080" y="2666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3"/>
          <p:cNvSpPr/>
          <p:nvPr/>
        </p:nvSpPr>
        <p:spPr>
          <a:xfrm>
            <a:off x="1371600" y="954000"/>
            <a:ext cx="654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вторим правописание нареч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кройте скобки, вставьте бук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4"/>
          <p:cNvSpPr/>
          <p:nvPr/>
        </p:nvSpPr>
        <p:spPr>
          <a:xfrm>
            <a:off x="914400" y="2325600"/>
            <a:ext cx="79246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На)век, (на)отмаш…, точь(в)точь, бок(о)бок, (в)ручную, (по)ребячески, (во)первых, (по)нашему, (ото)всюду,  (не)жданно, (не)однократно, (не)правдиво, а лжив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ичуть (не)интересно, снов…, досрочн…, навзнич…, замуж…, (мало)помалу. (еле)еле, (не)хорош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3280" y="457200"/>
            <a:ext cx="8183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роверим себя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503280" y="1828440"/>
            <a:ext cx="8183520" cy="3962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век, наотмашь, точь - в -точь, бок о бок, вручную, по-ребячески, во-первых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-нашему, отовсюду,  нежданно, неоднократно, не правдиво, а лживо,  ничуть не интересно, снова, досрочно, навзничь, замуж, мало-помалу,  еле -еле, нехорош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Organization Chart 7"/>
          <p:cNvGrpSpPr/>
          <p:nvPr/>
        </p:nvGrpSpPr>
        <p:grpSpPr>
          <a:xfrm>
            <a:off x="755640" y="549360"/>
            <a:ext cx="7776000" cy="5902920"/>
            <a:chOff x="755640" y="549360"/>
            <a:chExt cx="7776000" cy="5902920"/>
          </a:xfrm>
        </p:grpSpPr>
        <p:cxnSp>
          <p:nvCxnSpPr>
            <p:cNvPr id="273" name="_s1028"/>
            <p:cNvCxnSpPr>
              <a:stCxn id="274" idx="0"/>
              <a:endCxn id="275" idx="2"/>
            </p:cNvCxnSpPr>
            <p:nvPr/>
          </p:nvCxnSpPr>
          <p:spPr>
            <a:xfrm flipV="1">
              <a:off x="6865200" y="4237920"/>
              <a:ext cx="3960" cy="73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6" name="_s1029"/>
            <p:cNvCxnSpPr>
              <a:stCxn id="277" idx="0"/>
              <a:endCxn id="278" idx="2"/>
            </p:cNvCxnSpPr>
            <p:nvPr/>
          </p:nvCxnSpPr>
          <p:spPr>
            <a:xfrm flipV="1">
              <a:off x="2421360" y="4237920"/>
              <a:ext cx="3960" cy="73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9" name="_s1030"/>
            <p:cNvCxnSpPr>
              <a:stCxn id="275" idx="1"/>
              <a:endCxn id="280" idx="2"/>
            </p:cNvCxnSpPr>
            <p:nvPr/>
          </p:nvCxnSpPr>
          <p:spPr>
            <a:xfrm rot="10800000">
              <a:off x="4642920" y="2024280"/>
              <a:ext cx="555840" cy="1476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1" name="_s1031"/>
            <p:cNvCxnSpPr>
              <a:stCxn id="278" idx="3"/>
              <a:endCxn id="280" idx="2"/>
            </p:cNvCxnSpPr>
            <p:nvPr/>
          </p:nvCxnSpPr>
          <p:spPr>
            <a:xfrm flipV="1">
              <a:off x="4088160" y="2024280"/>
              <a:ext cx="555840" cy="1476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0" name="_s1032"/>
            <p:cNvSpPr/>
            <p:nvPr/>
          </p:nvSpPr>
          <p:spPr>
            <a:xfrm>
              <a:off x="2977200" y="549360"/>
              <a:ext cx="3332520" cy="14756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8000"/>
                  </a:solidFill>
                  <a:latin typeface="Arial"/>
                </a:rPr>
                <a:t>По происхождению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8000"/>
                  </a:solidFill>
                  <a:latin typeface="Arial"/>
                </a:rPr>
                <a:t>предлоги бывают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_s1033"/>
            <p:cNvSpPr/>
            <p:nvPr/>
          </p:nvSpPr>
          <p:spPr>
            <a:xfrm>
              <a:off x="755640" y="2763000"/>
              <a:ext cx="3332520" cy="1475640"/>
            </a:xfrm>
            <a:prstGeom prst="roundRect">
              <a:avLst>
                <a:gd name="adj" fmla="val 16667"/>
              </a:avLst>
            </a:prstGeom>
            <a:solidFill>
              <a:srgbClr val="d09de7"/>
            </a:solidFill>
            <a:ln w="9360">
              <a:solidFill>
                <a:srgbClr val="3232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cc"/>
                  </a:solidFill>
                  <a:latin typeface="Arial"/>
                </a:rPr>
                <a:t>непроизводные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_s1034"/>
            <p:cNvSpPr/>
            <p:nvPr/>
          </p:nvSpPr>
          <p:spPr>
            <a:xfrm>
              <a:off x="5199120" y="2763000"/>
              <a:ext cx="3332520" cy="1475640"/>
            </a:xfrm>
            <a:prstGeom prst="roundRect">
              <a:avLst>
                <a:gd name="adj" fmla="val 16667"/>
              </a:avLst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cc"/>
                  </a:solidFill>
                  <a:latin typeface="Arial"/>
                </a:rPr>
                <a:t>производные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_s1035"/>
            <p:cNvSpPr/>
            <p:nvPr/>
          </p:nvSpPr>
          <p:spPr>
            <a:xfrm>
              <a:off x="755640" y="4976640"/>
              <a:ext cx="3332520" cy="1475640"/>
            </a:xfrm>
            <a:prstGeom prst="roundRect">
              <a:avLst>
                <a:gd name="adj" fmla="val 16667"/>
              </a:avLst>
            </a:prstGeom>
            <a:solidFill>
              <a:srgbClr val="d09de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В, на, за, из-за,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из-под, по-над,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из, под, у, от и т.д.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_s1036"/>
            <p:cNvSpPr/>
            <p:nvPr/>
          </p:nvSpPr>
          <p:spPr>
            <a:xfrm>
              <a:off x="5199120" y="4976640"/>
              <a:ext cx="3332520" cy="1475640"/>
            </a:xfrm>
            <a:prstGeom prst="roundRect">
              <a:avLst>
                <a:gd name="adj" fmla="val 16667"/>
              </a:avLst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900" spc="-1" strike="noStrike">
                  <a:solidFill>
                    <a:srgbClr val="000000"/>
                  </a:solidFill>
                  <a:latin typeface="Arial"/>
                </a:rPr>
                <a:t>Ввиду, вследствие,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900" spc="-1" strike="noStrike">
                  <a:solidFill>
                    <a:srgbClr val="000000"/>
                  </a:solidFill>
                  <a:latin typeface="Arial"/>
                </a:rPr>
                <a:t>навстречу,вроде,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900" spc="-1" strike="noStrike">
                  <a:solidFill>
                    <a:srgbClr val="000000"/>
                  </a:solidFill>
                  <a:latin typeface="Arial"/>
                </a:rPr>
                <a:t>несмотря на и т.д.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03280" y="456840"/>
            <a:ext cx="8183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8d3e"/>
                </a:solidFill>
                <a:latin typeface="Verdana"/>
              </a:rPr>
              <a:t>Правописание производных предлогов.</a:t>
            </a: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503280" y="529920"/>
            <a:ext cx="8183520" cy="4187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4" name=""/>
          <p:cNvGraphicFramePr/>
          <p:nvPr/>
        </p:nvGraphicFramePr>
        <p:xfrm>
          <a:off x="990720" y="1295280"/>
          <a:ext cx="7619760" cy="4259520"/>
        </p:xfrm>
        <a:graphic>
          <a:graphicData uri="http://schemas.openxmlformats.org/drawingml/2006/table">
            <a:tbl>
              <a:tblPr/>
              <a:tblGrid>
                <a:gridCol w="3809880"/>
                <a:gridCol w="3809880"/>
              </a:tblGrid>
              <a:tr h="78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Слитн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Раздельн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Вследствие(=по причине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Вроде         (=подобно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Наподобие (=подобно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Вместо(=за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Насчет(=о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Ввиду(=из-за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Несмотря на(=вопреки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В течение               (=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В продолж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В целях (=для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Со стороны  (=от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По причине   (=для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В заключение(=в итоге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3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6"/>
          <p:cNvSpPr/>
          <p:nvPr/>
        </p:nvSpPr>
        <p:spPr>
          <a:xfrm>
            <a:off x="2514600" y="5335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Вспомнит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1143000" y="12952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благодар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8"/>
          <p:cNvSpPr/>
          <p:nvPr/>
        </p:nvSpPr>
        <p:spPr>
          <a:xfrm>
            <a:off x="838080" y="213372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… </a:t>
            </a: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хорошей пого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… </a:t>
            </a: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спортивным успех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победил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выиграл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9"/>
          <p:cNvSpPr/>
          <p:nvPr/>
        </p:nvSpPr>
        <p:spPr>
          <a:xfrm>
            <a:off x="4724280" y="13716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вследствие, из-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0"/>
          <p:cNvSpPr/>
          <p:nvPr/>
        </p:nvSpPr>
        <p:spPr>
          <a:xfrm>
            <a:off x="5105520" y="5029200"/>
            <a:ext cx="304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1"/>
          <p:cNvSpPr/>
          <p:nvPr/>
        </p:nvSpPr>
        <p:spPr>
          <a:xfrm>
            <a:off x="4724280" y="228600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… </a:t>
            </a: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плохой пог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… </a:t>
            </a: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спортивных неуда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потерпел поражение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проиграл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4191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                   </a:t>
            </a: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Различайте!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0" y="1219320"/>
          <a:ext cx="9144000" cy="563868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лог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гие части реч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1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иться в течение г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аться вследствие непого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хать в продолжение час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ворить насчет пох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йти вместо дру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успеть ввиду опозд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делать, несмотря на труд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ороты в течении ре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следствии по делу о краж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тайте в продолжении рома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вести на счет в банк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петь в место сбора отрядо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ейте это в вид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смотря на прохожи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98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3280" y="457200"/>
            <a:ext cx="8183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Е или И? Если вставили Е, выпишите первое слово из предложения, если И- второе. Прочитайте получившееся предложение.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4" name="Text Box 11"/>
          <p:cNvSpPr/>
          <p:nvPr/>
        </p:nvSpPr>
        <p:spPr>
          <a:xfrm>
            <a:off x="762120" y="1981080"/>
            <a:ext cx="8153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м нужно идти в течени… целого д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довороты следует искать в течени… ре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удно отыскать ошибки в следстви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ртовый флажок отяжелел вследстви… дожд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ифр меняют в продолжени… ча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3280" y="457200"/>
            <a:ext cx="8183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роверьте себя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503280" y="2514240"/>
            <a:ext cx="8183520" cy="2203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 вас должно получиться предложение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a50021"/>
                </a:solidFill>
                <a:latin typeface="Verdana"/>
              </a:rPr>
              <a:t>       </a:t>
            </a:r>
            <a:r>
              <a:rPr b="0" lang="ru-RU" sz="4000" spc="-1" strike="noStrike">
                <a:solidFill>
                  <a:srgbClr val="a50021"/>
                </a:solidFill>
                <a:latin typeface="Verdana"/>
              </a:rPr>
              <a:t>Вам следует отыскать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50021"/>
                </a:solidFill>
                <a:latin typeface="Verdana"/>
              </a:rPr>
              <a:t>         </a:t>
            </a:r>
            <a:r>
              <a:rPr b="0" lang="ru-RU" sz="4000" spc="-1" strike="noStrike">
                <a:solidFill>
                  <a:srgbClr val="a50021"/>
                </a:solidFill>
                <a:latin typeface="Verdana"/>
              </a:rPr>
              <a:t>стартовый шифр!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ndows 7</cp:lastModifiedBy>
  <dcterms:modified xsi:type="dcterms:W3CDTF">2013-05-07T02:24:36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